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1BF-7D9F-4338-A049-6B1B38B4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B0C-6943-4C81-AA1A-F1FF20C5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600-76D6-4DEB-8292-A3340BC5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C33-7DBE-40D4-8345-D5337C7E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DE0-F7BF-4097-AA40-CF8A36CA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F4B-A925-4264-A980-9C2F70F5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D91-CABA-49BF-A713-208B6377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36A-3B90-4AAB-9AFE-E5D16149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7F5-380A-4B94-A5F3-BCAEEE29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9C0-C105-4F8B-BE91-DE7A10A4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89C-F240-47A5-A4BB-0B3530C6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B08-4A5D-4D49-8830-8B452821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90A07-3CD3-402A-BF6A-6EB854A785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6BE13-C22E-484E-896F-50B9C25B9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gfl.org/index.cfm?s=1&amp;m=3170&amp;p=1920,inde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058840"/>
            <a:ext cx="658512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tal Talent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Wendy Giffo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Mike Kop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Dylan Mars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Mike Oom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Todd Wy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Jon Coo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 Level:  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9040" y="1906560"/>
            <a:ext cx="7756560" cy="421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ent /Teacher Observation Che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havi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ag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Desig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information seeker/giv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ordinator/recorder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302360" y="1233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9652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7148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78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216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938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676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6478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72096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786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58244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7532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77914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6518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19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649240" y="1600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m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ments to be used purpose, time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512640"/>
          <a:ext cx="8229600" cy="6266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is produced in homeroom, but they can carry this around with them for the first week of the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ther information about how students perceive themselves, which then allows other teachers and students to take this into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FL Questionnaire (MI &amp; learning sty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www.bgfl.org/index.cfm?s=1&amp;m=3170&amp;p=1920,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ed by HS guidance, and distributed to homeroom teachers  for discussion and reflection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a controlled, reliable valid profile of each student, which allows students to reflect on their learning style, opening up discussion and self ref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er tower building/ observation (other group challenge activities also possi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ed out in homeroom, with students as observers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observe how students work together in groups in terms of  engagement, creativity, leadership and problem solving. Also a team building activity for home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ho will you Display Result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results would be collated as the basis for the ‘total talent portfolio’ for HS faculty, the student &amp; thei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w will you share resul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ults would be stored electronically and accessible to all HS faculty, the student &amp; their par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mple Uses for this in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d for grouping students for projects and assignments, college guidance, planning of UbD units/ performance tasks, course selection, enables teachers to get to know students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uring Open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roduce parents to the ‘total talent portfolio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cific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ent workshop also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ormation needs to be accessed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ported on in semester reports in the ‘Advisory Section’ in Power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72880" y="1600200"/>
          <a:ext cx="8583840" cy="4703760"/>
        </p:xfrm>
        <a:graphic>
          <a:graphicData uri="http://schemas.openxmlformats.org/drawingml/2006/table">
            <a:tbl>
              <a:tblPr/>
              <a:tblGrid>
                <a:gridCol w="2146320"/>
                <a:gridCol w="1940040"/>
                <a:gridCol w="2352600"/>
                <a:gridCol w="214488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 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bi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 arts, crafts, PE, d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gam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s and craft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playing, dramat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yle Pre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ctional Style Preferenc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esthetic and visual 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72880" y="2496960"/>
            <a:ext cx="858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s Activity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piece of A4 paper and fold three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your name clearly on the fr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c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paper, illustrate 5 aspects of your personality that are important to you and that you are willing to share public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someone who you don’t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hrough your card with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another group  and introduce your partner to your new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0760" y="3562200"/>
            <a:ext cx="6113520" cy="218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0760" y="2979720"/>
            <a:ext cx="1386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346440" y="2979720"/>
            <a:ext cx="158292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830280" y="2263680"/>
            <a:ext cx="1626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on fro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897200" y="5281560"/>
            <a:ext cx="15141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56960" y="2362320"/>
            <a:ext cx="28828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interests on the 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GFL Questionnaire (MI &amp; learning sty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bgfl.org/index.cfm?s=1&amp;m=3170&amp;p=1920,inde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2360" y="1600200"/>
            <a:ext cx="6094440" cy="475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7920" y="2460600"/>
            <a:ext cx="1537200" cy="228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ompl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n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ights i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MI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2660760"/>
            <a:ext cx="154476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54160" y="1417680"/>
            <a:ext cx="6557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marshalldy</cp:lastModifiedBy>
  <dcterms:modified xsi:type="dcterms:W3CDTF">2010-06-07T04:00:03Z</dcterms:modified>
  <cp:revision>16</cp:revision>
  <dc:subject/>
  <dc:title>Slide 1</dc:title>
</cp:coreProperties>
</file>