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EB3-9E54-4CA7-8A34-C09A5D36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A4D-F447-4370-B924-B773FEE4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B78-AAC6-42F7-AD3F-B45A293C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FF01-D780-485F-83C2-8BFEA017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8E12-4CBD-4280-8BF8-B538A4C1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B49-0CC4-4C22-AB17-4D8ED527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37F-5A88-471B-B8C1-0F3ADF79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6D2-1018-4C43-AAD0-430A61B3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7B1-B5BD-4D79-AA60-80A9002E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ABF-2DE7-4A94-8B05-4818FA7E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1B2-C306-445C-9F0F-8242A769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A38-8C10-4A7E-A958-786FC545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98178-519E-4D57-B1E4-3C0D927D65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45995-774E-4A6E-AC55-9ABB773BF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gfl.org/index.cfm?s=1&amp;m=3170&amp;p=1920,index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058840"/>
            <a:ext cx="658512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tal Talent Portfol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Wendy Giffor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Mike Kop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. Dylan Marsh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. Mike Oome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. Todd Wy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. Jon Coo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ade Level:  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9040" y="1906560"/>
            <a:ext cx="7756560" cy="4219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servation: The Paper T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5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udent /Teacher Observation Check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havio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gag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tial Desig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sever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information seeker/give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ordinator/recorder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4302360" y="123336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96524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71484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478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5216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5938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6676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264780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372096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78620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582444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675324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779148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8651880" y="1600200"/>
            <a:ext cx="0" cy="50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00200"/>
            <a:ext cx="819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649240" y="160020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im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600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ruments to be used purpose, time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512640"/>
          <a:ext cx="8229600" cy="6266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 / by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y this instrumen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C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 is produced in homeroom, but they can carry this around with them for the first week of the seme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ather information about how students perceive themselves, which then allows other teachers and students to take this into ac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GFL Questionnaire (MI &amp; learning sty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http://www.bgfl.org/index.cfm?s=1&amp;m=3170&amp;p=1920,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ed by HS guidance, and distributed to homeroom teachers  for discussion and reflection – first week of seme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s a controlled, reliable valid profile of each student, which allows students to reflect on their learning style, opening up discussion and self ref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per tower building/ observation (other group challenge activities also possib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ried out in homeroom, with students as observers – first week of seme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observe how students work together in groups in terms of  engagement, creativity, leadership and problem solving. Also a team building activity for homero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ssroom / Profil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did we lear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Who will you Display Results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results would be collated as the basis for the ‘total talent portfolio’ for HS faculty, the student &amp; their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w will you share resul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sults would be stored electronically and accessible to all HS faculty, the student &amp; their pare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mple Uses for this inform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sed for grouping students for projects and assignments, college guidance, planning of UbD units/ performance tasks, course selection, enables teachers to get to know students be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ent De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uring Open 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troduce parents to the ‘total talent portfolio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pecific Ide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rent workshop also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ormation needs to be accessed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ported on in semester reports in the ‘Advisory Section’ in Power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72880" y="1600200"/>
          <a:ext cx="8583840" cy="4703760"/>
        </p:xfrm>
        <a:graphic>
          <a:graphicData uri="http://schemas.openxmlformats.org/drawingml/2006/table">
            <a:tbl>
              <a:tblPr/>
              <a:tblGrid>
                <a:gridCol w="2146320"/>
                <a:gridCol w="1940040"/>
                <a:gridCol w="2352600"/>
                <a:gridCol w="2144880"/>
              </a:tblGrid>
              <a:tr h="47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tle Jim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bil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e arts, crafts, PE, dr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nter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ing game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s and craft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e playing, dramat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yle Prefer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ctional Style Preferenc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nesthetic and visual spat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72880" y="2496960"/>
            <a:ext cx="858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udent Specific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siness Cards Activity 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a piece of A4 paper and fold three 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your name clearly on the fr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ac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paper, illustrate 5 aspects of your personality that are important to you and that you are willing to share public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 up with someone who you don’t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through your card with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 up with another group  and introduce your partner to your new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usiness Car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20760" y="3562200"/>
            <a:ext cx="6113520" cy="218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20760" y="2979720"/>
            <a:ext cx="1386000" cy="11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346440" y="2979720"/>
            <a:ext cx="1582920" cy="14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6830280" y="2263680"/>
            <a:ext cx="16268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 on fro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1897200" y="5281560"/>
            <a:ext cx="15141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56960" y="2362320"/>
            <a:ext cx="288288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w interests on the b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GFL Questionnaire (MI &amp; learning styl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bgfl.org/index.cfm?s=1&amp;m=3170&amp;p=1920,index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92360" y="1600200"/>
            <a:ext cx="6094440" cy="4759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7920" y="2460600"/>
            <a:ext cx="1537200" cy="228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compl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n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vey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 g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ights i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MI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1908000" y="2660760"/>
            <a:ext cx="154476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servation: The Paper T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54160" y="1417680"/>
            <a:ext cx="65577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0:07:15Z</dcterms:created>
  <dc:creator>Henry Nicols</dc:creator>
  <dc:description/>
  <dc:language>en-US</dc:language>
  <cp:lastModifiedBy>marshalldy</cp:lastModifiedBy>
  <dcterms:modified xsi:type="dcterms:W3CDTF">2010-06-07T04:00:03Z</dcterms:modified>
  <cp:revision>16</cp:revision>
  <dc:subject/>
  <dc:title>Slide 1</dc:title>
</cp:coreProperties>
</file>