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DA90-F976-4EDE-9E13-A25D1FC96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A287-7534-4C14-8CDD-49CDC10B0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FB1F-E88F-4CE0-9E99-6DEACBC2F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198B-41AA-4C72-ADFD-5946F58F7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AAB2-7582-4EFD-AB09-EB98097A5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A2CA-E5A3-42A7-AEA9-FA601096D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4698-9246-4B3E-BD70-23818BFD6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A405-DF44-4802-9BB5-CD2B851B2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D1B8-AF3A-4FBB-B115-953AF12F5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8FA6-E355-488E-9667-849C072D0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86D1-73A8-4F58-93D8-C922C99D9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E2EE-364A-4625-B023-E731172D4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355CAE-81BC-46EA-9617-6A49FA638B4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11CA72-1750-4B0E-A353-337A31F070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bgfl.org/index.cfm?s=1&amp;m=3170&amp;p=1920,index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2058840"/>
            <a:ext cx="6585120" cy="35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otal Talent Portfol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. Wendy Giffor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2. Mike Kop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. Dylan Marshal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4. Mike Oome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5. Todd Wyk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6. Jon Cool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rade Level:  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89040" y="1906560"/>
            <a:ext cx="7756560" cy="42195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Observation: The Paper To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351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tudent /Teacher Observation Check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Behavio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ngag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reativ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patial Desig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erseveran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eadershi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(information seeker/give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ordinator/recorder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/>
          <p:nvPr/>
        </p:nvSpPr>
        <p:spPr>
          <a:xfrm>
            <a:off x="4302360" y="1233360"/>
            <a:ext cx="152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udent N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196524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289548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71484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44784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52164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593892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667692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/>
          <p:nvPr/>
        </p:nvSpPr>
        <p:spPr>
          <a:xfrm>
            <a:off x="2647800" y="1600200"/>
            <a:ext cx="0" cy="50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600200"/>
            <a:ext cx="0" cy="50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/>
          <p:nvPr/>
        </p:nvSpPr>
        <p:spPr>
          <a:xfrm>
            <a:off x="3720960" y="1600200"/>
            <a:ext cx="0" cy="50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4786200" y="1600200"/>
            <a:ext cx="0" cy="50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/>
          <p:nvPr/>
        </p:nvSpPr>
        <p:spPr>
          <a:xfrm>
            <a:off x="5824440" y="1600200"/>
            <a:ext cx="0" cy="50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6753240" y="1600200"/>
            <a:ext cx="0" cy="50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/>
          <p:nvPr/>
        </p:nvSpPr>
        <p:spPr>
          <a:xfrm>
            <a:off x="7791480" y="1600200"/>
            <a:ext cx="0" cy="50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8651880" y="1600200"/>
            <a:ext cx="0" cy="50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1600200"/>
            <a:ext cx="819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2649240" y="1600200"/>
            <a:ext cx="7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imm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600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ruments to be used purpose, timetab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57200" y="512640"/>
          <a:ext cx="8229600" cy="62661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at Instru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en / by wh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y this instrument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5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siness C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d is produced in homeroom, but they can carry this around with them for the first week of the semes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gather information about how students perceive themselves, which then allows other teachers and students to take this into ac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2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GFL Questionnaire (MI &amp; learning style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"/>
                        </a:rPr>
                        <a:t>http://www.bgfl.org/index.cfm?s=1&amp;m=3170&amp;p=1920,ind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ordinated by HS guidance, and distributed to homeroom teachers  for discussion and reflection – first week of semes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vides a controlled, reliable valid profile of each student, which allows students to reflect on their learning style, opening up discussion and self refl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4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per tower building/ observation (other group challenge activities also possibl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ried out in homeroom, with students as observers – first week of semes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observe how students work together in groups in terms of  engagement, creativity, leadership and problem solving. Also a team building activity for homero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lassroom / Profile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What did we learn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Who will you Display Results t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he results would be collated as the basis for the ‘total talent portfolio’ for HS faculty, the student &amp; their par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How will you share result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esults would be stored electronically and accessible to all HS faculty, the student &amp; their parent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ample Uses for this informa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Used for grouping students for projects and assignments, college guidance, planning of UbD units/ performance tasks, course selection, enables teachers to get to know students bet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arent Debrief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Whe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During Open H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How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ntroduce parents to the ‘total talent portfolio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pecific Ide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Parent workshop also requi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nformation needs to be accessed on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ported on in semester reports in the ‘Advisory Section’ in PowerSch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272880" y="1600200"/>
          <a:ext cx="8583840" cy="4703760"/>
        </p:xfrm>
        <a:graphic>
          <a:graphicData uri="http://schemas.openxmlformats.org/drawingml/2006/table">
            <a:tbl>
              <a:tblPr/>
              <a:tblGrid>
                <a:gridCol w="2146320"/>
                <a:gridCol w="1940040"/>
                <a:gridCol w="2352600"/>
                <a:gridCol w="2144880"/>
              </a:tblGrid>
              <a:tr h="47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ttle Jimm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Abilit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e arts, crafts, PE, dra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Interes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arning games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ts and crafts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le playing, dramatiz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Style Preferen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ructional Style Preferences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nesthetic and visual spati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72880" y="2496960"/>
            <a:ext cx="858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tudent Specific 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Business Cards Activity Instru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ke a piece of A4 paper and fold three ti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rite your name clearly on the fro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back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 the paper, illustrate 5 aspects of your personality that are important to you and that you are willing to share public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ir up with someone who you don’t kn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 through your card with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ir up with another group  and introduce your partner to your new gro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Business Card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20760" y="3562200"/>
            <a:ext cx="6113520" cy="2186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220760" y="2979720"/>
            <a:ext cx="1386000" cy="1158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6346440" y="2979720"/>
            <a:ext cx="1582920" cy="14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6830280" y="2263680"/>
            <a:ext cx="1626840" cy="368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me on fro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/>
          <p:nvPr/>
        </p:nvSpPr>
        <p:spPr>
          <a:xfrm>
            <a:off x="1897200" y="5281560"/>
            <a:ext cx="15141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156960" y="2362320"/>
            <a:ext cx="2882880" cy="368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aw interests on the b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GFL Questionnaire (MI &amp; learning style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ttp://www.bgfl.org/index.cfm?s=1&amp;m=3170&amp;p=1920,index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592360" y="1600200"/>
            <a:ext cx="6094440" cy="47592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67920" y="2460600"/>
            <a:ext cx="1537200" cy="2288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ult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 comple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onl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rvey 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ults g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sights in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r MI’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1908000" y="2660760"/>
            <a:ext cx="1544760" cy="245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Observation: The Paper To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154160" y="1417680"/>
            <a:ext cx="655776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5T00:07:15Z</dcterms:created>
  <dc:creator>Henry Nicols</dc:creator>
  <dc:description/>
  <dc:language>en-US</dc:language>
  <cp:lastModifiedBy>marshalldy</cp:lastModifiedBy>
  <dcterms:modified xsi:type="dcterms:W3CDTF">2010-06-07T04:00:03Z</dcterms:modified>
  <cp:revision>16</cp:revision>
  <dc:subject/>
  <dc:title>Slide 1</dc:title>
</cp:coreProperties>
</file>