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F26-C94D-42FA-8317-815F4AEE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E85-AA42-41ED-AA6C-A1651799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9AE-D5C2-4413-AED2-D6C4EF0C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29D-EF34-45AF-A5A1-4102B5A2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B8E-3FBA-464F-A48A-9C5F0827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701-9B88-468E-AD23-389AB802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737-4191-41FF-8DAD-7DA31063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1BF-14EC-4D54-9E6D-6511515B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113-3CF2-47E7-B799-BB603506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BED-F0D1-41E8-91B6-8758F2B3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1BE-8B1B-444F-A7D5-4AFA0EF7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791-5329-4B2C-B5D3-406C3B60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8EBCD-9AA8-4646-B171-12D29A6F9B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76504-FA6B-4906-BF08-0C2835213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gfl.org/index.cfm?s=1&amp;m=3170&amp;p=1920,inde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058840"/>
            <a:ext cx="658512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tal Talent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Wendy Giffo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Mike Kop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. Dylan Marsh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. Mike Oom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. Todd Wy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. Jon Coo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e Level:  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9040" y="1906560"/>
            <a:ext cx="7756560" cy="4219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servation: The Paper T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udent /Teacher Observation Check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havi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gag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tial Desig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sever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information seeker/give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ordinator/recorder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302360" y="123336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9652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7148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478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216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938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6676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6478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372096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7862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582444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75324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779148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65188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19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649240" y="16002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im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ments to be used purpose, time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512640"/>
          <a:ext cx="8229600" cy="6266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 is produced in homeroom, but they can carry this around with them for the first week of the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ther information about how students perceive themselves, which then allows other teachers and students to take this into 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FL Questionnaire (MI &amp; learning sty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http://www.bgfl.org/index.cfm?s=1&amp;m=3170&amp;p=1920,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ed by HS guidance, and distributed to homeroom teachers  for discussion and reflection – first week of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a controlled, reliable valid profile of each student, which allows students to reflect on their learning style, opening up discussion and self ref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er tower building/ observation (other group challenge activities also possi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ried out in homeroom, with students as observers – first week of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observe how students work together in groups in terms of  engagement, creativity, leadership and problem solving. Also a team building activity for home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ho will you Display Results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results would be collated as the basis for the ‘total talent portfolio’ for HS faculty, the student &amp; their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w will you share resul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sults would be stored electronically and accessible to all HS faculty, the student &amp; their pare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mple Uses for this infor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d for grouping students for projects and assignments, college guidance, planning of UbD units/ performance tasks, course selection, enables teachers to get to know students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uring Open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roduce parents to the ‘total talent portfolio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pecific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ent workshop also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ormation needs to be accessed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ported on in semester reports in the ‘Advisory Section’ in Power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72880" y="1600200"/>
          <a:ext cx="8583840" cy="4703760"/>
        </p:xfrm>
        <a:graphic>
          <a:graphicData uri="http://schemas.openxmlformats.org/drawingml/2006/table">
            <a:tbl>
              <a:tblPr/>
              <a:tblGrid>
                <a:gridCol w="2146320"/>
                <a:gridCol w="1940040"/>
                <a:gridCol w="2352600"/>
                <a:gridCol w="214488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tle 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bil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e arts, crafts, PE, dr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nte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gam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s and craft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 playing, dramat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yle Prefer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ctional Style Preferenc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esthetic and visual spa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72880" y="2496960"/>
            <a:ext cx="858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siness Cards Activity 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a piece of A4 paper and fold three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your name clearly on the fr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c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paper, illustrate 5 aspects of your personality that are important to you and that you are willing to share public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up with someone who you don’t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hrough your card with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up with another group  and introduce your partner to your new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siness Car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20760" y="3562200"/>
            <a:ext cx="6113520" cy="218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20760" y="2979720"/>
            <a:ext cx="1386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346440" y="2979720"/>
            <a:ext cx="158292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6830280" y="2263680"/>
            <a:ext cx="1626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on fro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897200" y="5281560"/>
            <a:ext cx="15141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56960" y="2362320"/>
            <a:ext cx="28828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 interests on the b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GFL Questionnaire (MI &amp; learning sty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bgfl.org/index.cfm?s=1&amp;m=3170&amp;p=1920,inde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2360" y="1600200"/>
            <a:ext cx="6094440" cy="4759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7920" y="2460600"/>
            <a:ext cx="1537200" cy="228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compl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n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y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g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ights i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MI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2660760"/>
            <a:ext cx="154476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servation: The Paper T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54160" y="1417680"/>
            <a:ext cx="6557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0:07:15Z</dcterms:created>
  <dc:creator>Henry Nicols</dc:creator>
  <dc:description/>
  <dc:language>en-US</dc:language>
  <cp:lastModifiedBy>marshalldy</cp:lastModifiedBy>
  <dcterms:modified xsi:type="dcterms:W3CDTF">2010-06-07T04:00:03Z</dcterms:modified>
  <cp:revision>16</cp:revision>
  <dc:subject/>
  <dc:title>Slide 1</dc:title>
</cp:coreProperties>
</file>