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CB3-126E-4667-84F0-01363A47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5BE-FB51-46F7-8A8F-A9247920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75E-B8BC-48CB-9B69-2BF3C203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5C2-50B7-4039-AFAA-CFDB6406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D7D-92BF-46BF-8775-84B4EACC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78B-AAAF-4685-8615-FCE87902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9C5-BD7D-4B61-9B1B-065046AA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31C-E34B-4288-A083-1E78B925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2BB-4B89-4A4E-AB6E-54BC4B9F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CB1-969F-4CEB-B9E5-9D5E2543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480-0950-4816-A805-04A243F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A91-B345-45D8-ABFB-D7DA50B8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6B6-3658-4641-AB27-0D5627F18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52680" y="2362320"/>
          <a:ext cx="236232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23623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505320" y="2438280"/>
            <a:ext cx="213336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3048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ball World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029200" y="160020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123720" y="1295280"/>
            <a:ext cx="6858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133720" y="3505320"/>
            <a:ext cx="13716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14240" y="4191120"/>
            <a:ext cx="15238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3124080"/>
            <a:ext cx="19814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9625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066680"/>
            <a:ext cx="3810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own mini world 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352680"/>
            <a:ext cx="14479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ot, Mural, med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1640" y="476100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sics – Newtons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34340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486400"/>
            <a:ext cx="1143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876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ts, so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4343400"/>
            <a:ext cx="763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5280" y="56754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rica, Econom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3894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'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zing data, predi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98760" y="874800"/>
            <a:ext cx="169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s reporter, blog of a player, po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3:49:44Z</dcterms:created>
  <dc:creator>allend</dc:creator>
  <dc:description/>
  <dc:language>en-US</dc:language>
  <cp:lastModifiedBy>allend</cp:lastModifiedBy>
  <dcterms:modified xsi:type="dcterms:W3CDTF">2010-06-09T04:01:27Z</dcterms:modified>
  <cp:revision>3</cp:revision>
  <dc:subject/>
  <dc:title>Slide 1</dc:title>
</cp:coreProperties>
</file>