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878-3147-4BE7-97DA-838F2C19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BC7-4E6E-435C-B770-2A86A8BE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E121-8820-4F1A-BB9A-8180A281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1E0-8B89-41B8-8ED7-87DF24AD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6CB-1A26-4330-A269-3006965E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6F6-4DAC-44AC-99A6-4EE726FE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6D66-8EBA-4EBA-80AF-9E854DCC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977-F32C-4650-84DF-4C63F1DA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5B9-3739-4D8D-B91B-D413D3F7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79F-E722-491D-8FE2-E5814AFB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8A5-4006-4F5F-AF8C-FC89BE8E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94F-8215-4AD7-AF23-B8CB2BEC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6460-830B-44DB-A4A8-F272BC304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52680" y="2362320"/>
          <a:ext cx="236232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362320"/>
                    <a:ext cx="236232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505320" y="2438280"/>
            <a:ext cx="2133360" cy="1905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3048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ball World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029200" y="1600200"/>
            <a:ext cx="1676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3123720" y="1295280"/>
            <a:ext cx="6858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133720" y="3505320"/>
            <a:ext cx="137160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514240" y="4191120"/>
            <a:ext cx="15238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8680" y="3124080"/>
            <a:ext cx="1981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9625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066680"/>
            <a:ext cx="38102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own mini world c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3352680"/>
            <a:ext cx="144792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k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ot, Mural, medal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51640" y="4761000"/>
            <a:ext cx="146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ysics – Newtons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4343400"/>
            <a:ext cx="1219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5486400"/>
            <a:ext cx="1143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4876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ts, so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4343400"/>
            <a:ext cx="76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5280" y="567540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rica, Economy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3894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'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zing data, predi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98760" y="874800"/>
            <a:ext cx="1692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ish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s reporter, blog of a player, po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3:49:44Z</dcterms:created>
  <dc:creator>allend</dc:creator>
  <dc:description/>
  <dc:language>en-US</dc:language>
  <cp:lastModifiedBy>allend</cp:lastModifiedBy>
  <dcterms:modified xsi:type="dcterms:W3CDTF">2010-06-09T04:01:27Z</dcterms:modified>
  <cp:revision>3</cp:revision>
  <dc:subject/>
  <dc:title>Slide 1</dc:title>
</cp:coreProperties>
</file>