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16D-A47F-4BC1-8E4B-D10632F7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3CA-65E1-4842-AF20-632492DE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9CF-4130-4678-92EC-C4D23579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D57-E0B6-4523-9E29-FCEC7490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EAD-8E66-41F3-9AC9-3C54B6A3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13C-4516-49F3-8A33-1EC20D52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182-1911-4474-BD98-2E48AC9D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968-9110-497D-94C7-EF3328FC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A80-7505-4598-B928-EF61EE40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97C-C367-42CF-BB88-EEE592BD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356-C6F5-4C03-B5A0-2DFC4525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E5F-40B8-4E9D-BCAD-2FA3DEDA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522A-B7F2-4160-8988-11E4649ED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52680" y="2362320"/>
          <a:ext cx="236232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362320"/>
                    <a:ext cx="236232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505320" y="2438280"/>
            <a:ext cx="213336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3048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ball World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029200" y="160020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123720" y="1295280"/>
            <a:ext cx="6858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133720" y="3505320"/>
            <a:ext cx="137160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514240" y="4191120"/>
            <a:ext cx="15238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3124080"/>
            <a:ext cx="1981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9625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066680"/>
            <a:ext cx="38102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own mini world 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3352680"/>
            <a:ext cx="14479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ot, Mural, medal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4761000"/>
            <a:ext cx="14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ysics – Newtons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34340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486400"/>
            <a:ext cx="1143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4876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ts, so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4343400"/>
            <a:ext cx="76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5280" y="56754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rica, Economy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3894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'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zing data, predi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98760" y="874800"/>
            <a:ext cx="169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s reporter, blog of a player, po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3:49:44Z</dcterms:created>
  <dc:creator>allend</dc:creator>
  <dc:description/>
  <dc:language>en-US</dc:language>
  <cp:lastModifiedBy>allend</cp:lastModifiedBy>
  <dcterms:modified xsi:type="dcterms:W3CDTF">2010-06-09T04:01:27Z</dcterms:modified>
  <cp:revision>3</cp:revision>
  <dc:subject/>
  <dc:title>Slide 1</dc:title>
</cp:coreProperties>
</file>