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053-8595-49BD-A2EA-9F6D6570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080-3A9B-4363-97B4-61FC246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514-3772-431F-B072-A5186F27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3F9-C0DC-4C14-8C8C-899FD363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13A-A97C-4824-9C1B-FCE42DC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433-79BD-4DAE-A56F-FA49DC1E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2CD-717A-4738-905F-0098B58F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51C-AF72-4E30-AD28-4B869E94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F01-2268-47E7-B17B-443903B5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D36-7471-426A-B6D3-3225BEA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B61-DF3E-4EFD-AB9B-03C777AB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E32-E335-4490-9AC0-037F62C7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E46-9423-42B0-BCF4-830117AC2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52680" y="2362320"/>
          <a:ext cx="236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36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05320" y="2438280"/>
            <a:ext cx="213336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all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16002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123720" y="12952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33720" y="3505320"/>
            <a:ext cx="13716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419112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12408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9625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066680"/>
            <a:ext cx="3810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own mini world 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352680"/>
            <a:ext cx="1447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ot, Mural, med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7610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s – Newtons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34340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1143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ts, so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343400"/>
            <a:ext cx="76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56754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, Econom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89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'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ing data, predi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8760" y="874800"/>
            <a:ext cx="16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 reporter, blog of a player, po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49:44Z</dcterms:created>
  <dc:creator>allend</dc:creator>
  <dc:description/>
  <dc:language>en-US</dc:language>
  <cp:lastModifiedBy>allend</cp:lastModifiedBy>
  <dcterms:modified xsi:type="dcterms:W3CDTF">2010-06-09T04:01:27Z</dcterms:modified>
  <cp:revision>3</cp:revision>
  <dc:subject/>
  <dc:title>Slide 1</dc:title>
</cp:coreProperties>
</file>