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177-0B7F-4303-98D0-3C5631DB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5AA-AE29-411F-B313-C2D4EB3D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09E-C1D5-482A-AAFF-41CD82D1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B01-F916-4D20-A9BB-A2EE6E3F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027-00C6-4D7B-A6D8-7AD27C3C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FFB-8E8E-4205-B8A6-2659C40F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3B0-BD2B-4588-B2A9-9B94AE39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FA8-6B18-43CB-BE8B-8F6FB0C8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120-EA4D-448A-8D85-8ED56890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7DF-6EA9-463B-B63A-8069EDAA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210-7FC7-4576-888F-2393A04C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79B-B909-4AB9-A21D-3EEFD423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B9C7-136C-4C85-BB45-991F59DDE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52680" y="2362320"/>
          <a:ext cx="236232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362320"/>
                    <a:ext cx="236232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505320" y="2438280"/>
            <a:ext cx="2133360" cy="1905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3048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ball World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029200" y="1600200"/>
            <a:ext cx="1676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3123720" y="1295280"/>
            <a:ext cx="6858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133720" y="3505320"/>
            <a:ext cx="137160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514240" y="4191120"/>
            <a:ext cx="15238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3124080"/>
            <a:ext cx="1981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9625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066680"/>
            <a:ext cx="38102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own mini world 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3352680"/>
            <a:ext cx="14479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ot, Mural, medal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1640" y="4761000"/>
            <a:ext cx="146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ysics – Newtons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34340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5486400"/>
            <a:ext cx="1143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4876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ts, so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4343400"/>
            <a:ext cx="76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5280" y="567540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rica, Economy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3894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'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zing data, predi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98760" y="874800"/>
            <a:ext cx="169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s reporter, blog of a player, po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3:49:44Z</dcterms:created>
  <dc:creator>allend</dc:creator>
  <dc:description/>
  <dc:language>en-US</dc:language>
  <cp:lastModifiedBy>allend</cp:lastModifiedBy>
  <dcterms:modified xsi:type="dcterms:W3CDTF">2010-06-09T04:01:27Z</dcterms:modified>
  <cp:revision>3</cp:revision>
  <dc:subject/>
  <dc:title>Slide 1</dc:title>
</cp:coreProperties>
</file>