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7E5A-BBF2-4339-A75A-1CA28029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2C3B-B946-44D1-8163-3A4F0B51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303D-21CA-453C-AD43-3F68AC451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BE1D-297F-4A32-831B-16392093F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8B88-3371-4760-BA21-B5C9CA21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4AFB-A02C-48B6-A996-BAAAB254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CD21-4852-4CC6-B684-57D34188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7E09-EA4C-4FBF-B981-A2CAD48A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E03F-C898-4066-AC5F-9BE52354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877C-3423-4BD7-A690-0732C646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FE89-1F48-4256-9326-6BFA74D9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168D-9982-40A5-8E8C-EF238F19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AF91-4713-4746-9CA9-95F0F4BB9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52680" y="2362320"/>
          <a:ext cx="2362320" cy="20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362320"/>
                    <a:ext cx="2362320" cy="20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505320" y="2438280"/>
            <a:ext cx="2133360" cy="1905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30481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ball World c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029200" y="1600200"/>
            <a:ext cx="16765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3123720" y="1295280"/>
            <a:ext cx="6858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133720" y="3505320"/>
            <a:ext cx="1371600" cy="75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514240" y="4191120"/>
            <a:ext cx="15238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38680" y="3124080"/>
            <a:ext cx="19814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10080" y="396252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1480" y="1066680"/>
            <a:ext cx="38102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e your own mini world c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96080" y="3352680"/>
            <a:ext cx="144792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k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cot, Mural, medal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451640" y="4761000"/>
            <a:ext cx="146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ysics – Newtons La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4343400"/>
            <a:ext cx="121932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5486400"/>
            <a:ext cx="11430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t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48769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ts, so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4343400"/>
            <a:ext cx="7632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75280" y="5675400"/>
            <a:ext cx="16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graphy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frica, Economy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3389400"/>
            <a:ext cx="14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h'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yzing data, predi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98760" y="874800"/>
            <a:ext cx="1692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lish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s reporter, blog of a player, po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03:49:44Z</dcterms:created>
  <dc:creator>allend</dc:creator>
  <dc:description/>
  <dc:language>en-US</dc:language>
  <cp:lastModifiedBy>allend</cp:lastModifiedBy>
  <dcterms:modified xsi:type="dcterms:W3CDTF">2010-06-09T04:01:27Z</dcterms:modified>
  <cp:revision>3</cp:revision>
  <dc:subject/>
  <dc:title>Slide 1</dc:title>
</cp:coreProperties>
</file>