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045-E90B-4B66-BB7A-54A465E0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3F3-248C-418D-BB38-8CE438D0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8EF-3BFD-4699-BC5F-640951E1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849-B63D-4B6D-99B5-515B132E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511-FE86-4E0D-BEFC-4636CE4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BDE-BB36-4188-A871-5531B76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A5C-A57E-4991-8608-6373928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7E1-28E4-48CC-9CA6-DBE70EF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1B6-4128-4364-9FD8-D61E7C5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A49-B485-4FA5-B285-4F2D689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FA2-2FD9-4174-8545-FB3BCF8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8A5-D4A6-446D-8844-61C5E07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7A6-8D4B-4F09-AF91-F49CAE76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7508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29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429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95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25:27Z</dcterms:created>
  <dc:creator>Crucilloc</dc:creator>
  <dc:description/>
  <dc:language>en-US</dc:language>
  <cp:lastModifiedBy>crucilloc</cp:lastModifiedBy>
  <dcterms:modified xsi:type="dcterms:W3CDTF">2010-03-03T02:35:29Z</dcterms:modified>
  <cp:revision>3</cp:revision>
  <dc:subject/>
  <dc:title>Slide 1</dc:title>
</cp:coreProperties>
</file>