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6AF9-2E51-4434-9852-E36BE1EC2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38ED-7EC2-4447-AC42-10BC9524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6344-FF93-4FE7-8882-CE3F90907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A30B-A4C1-42E2-9E98-DFD58C9A2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0241-3DDC-4E82-B270-6905934B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8606-1E89-4F44-8B39-02A14FA3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CDF1-029A-47A8-98F5-180A1B03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2736-DF8D-4960-9B5D-13BD3F06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CD0C-1363-4C38-9BE2-A4C8DE93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1690-079D-4A4C-AEE1-D44E0EC8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4CAD-8D09-4F95-A0BF-0A6CE7EB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7315-A527-416F-AB53-7D009CB3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3C28-0C47-48BB-92B9-00C7ECCB4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70866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45147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4375080" cy="62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59292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542916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62320" y="457200"/>
            <a:ext cx="42955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06:25:27Z</dcterms:created>
  <dc:creator>Crucilloc</dc:creator>
  <dc:description/>
  <dc:language>en-US</dc:language>
  <cp:lastModifiedBy>crucilloc</cp:lastModifiedBy>
  <dcterms:modified xsi:type="dcterms:W3CDTF">2010-03-03T02:35:29Z</dcterms:modified>
  <cp:revision>3</cp:revision>
  <dc:subject/>
  <dc:title>Slide 1</dc:title>
</cp:coreProperties>
</file>