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9D9-3B5C-40C9-B2E5-6A782804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F68-D83D-476A-AC46-7D96ECCE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524-44AC-491C-B903-319A09D9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F7B-5B83-4546-85B5-F86FF46F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996-2094-47E5-8058-970CD783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047-CA32-4480-AB28-AF6905E8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9F4-FB09-4325-B5A0-C5D98280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F31-4BC7-4027-83CA-5A0632CF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AFB-5D12-4766-9CE9-2D2DF0A0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764-0FB6-480F-88C4-8D9E7951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2D5-B53E-47A2-B65A-390B29FF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FF5-89A9-4073-8DF9-E6689A66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118C-56EF-4AF8-A9BC-757EEC716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514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37508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5929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4291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295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6:25:27Z</dcterms:created>
  <dc:creator>Crucilloc</dc:creator>
  <dc:description/>
  <dc:language>en-US</dc:language>
  <cp:lastModifiedBy>crucilloc</cp:lastModifiedBy>
  <dcterms:modified xsi:type="dcterms:W3CDTF">2010-03-03T02:35:29Z</dcterms:modified>
  <cp:revision>3</cp:revision>
  <dc:subject/>
  <dc:title>Slide 1</dc:title>
</cp:coreProperties>
</file>