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554-F7E4-4303-8E71-1FFCB9EF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5D0-DD67-4BE0-AB11-499BC942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430-5717-49F3-8BD5-07341278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9D8-01BE-4BE1-88BF-674704FF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F72-4674-4F68-81C4-CC2921AB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D4A-D7FA-4415-A719-FEDE6F59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92F-E858-41AD-80E9-B34F9CF9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3CD-51C7-4D8C-B2F8-3E787D0A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D18-1C5A-41FE-8F19-4EF95865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942-5E40-48F0-8AAA-A2B35F69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4F2-FA9F-4FE6-B68B-4A9383E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BDF-4D66-4635-BDFD-949DD7CC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084-3F95-45F8-931C-63E4D9146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514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37508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29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4291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295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6:25:27Z</dcterms:created>
  <dc:creator>Crucilloc</dc:creator>
  <dc:description/>
  <dc:language>en-US</dc:language>
  <cp:lastModifiedBy>crucilloc</cp:lastModifiedBy>
  <dcterms:modified xsi:type="dcterms:W3CDTF">2010-03-03T02:35:29Z</dcterms:modified>
  <cp:revision>3</cp:revision>
  <dc:subject/>
  <dc:title>Slide 1</dc:title>
</cp:coreProperties>
</file>