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E9C1E-F72D-4318-822D-F6DD79E68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D3C8B-FE53-40D1-95F5-4A9E0854C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64BE5-9257-4432-949E-9D9287CD0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498B0-CC7C-4EC1-BF2F-6A04CA6BA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5CEBA-D027-4554-A7F8-11031D589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25C5C-841D-4522-8059-C2A05B004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099DD-90EA-4F8A-A5DE-49742C01C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16DEB-5565-40C9-9BF2-B49B8E973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CB7B5-2B0C-4A32-80C4-D3DBAA7E1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DF336-F0B6-40D4-A5E4-DE66EB134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35862-DCA9-4235-B1B7-2CC18CDEE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2C08B-8483-42CF-ADF6-83D5ED5F5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5B2CA-77A4-4535-B902-95F40E35BDDC}"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BC4BC-F0CF-482D-816D-83C1E136F3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1486080"/>
            <a:ext cx="6400800" cy="3095280"/>
          </a:xfrm>
          <a:prstGeom prst="rect">
            <a:avLst/>
          </a:prstGeom>
          <a:noFill/>
          <a:ln w="0">
            <a:noFill/>
          </a:ln>
        </p:spPr>
        <p:txBody>
          <a:bodyPr anchor="t">
            <a:no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otal Talent Portfolio</a:t>
            </a:r>
            <a:endParaRPr b="0" lang="en-US" sz="24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dam Winto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Kerrie Edwards</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Natalya Ayling</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Amanda Peki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Matt Pelke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Kris Hamaguchi</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Steve McCallum</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a:t>
            </a:r>
            <a:r>
              <a:rPr b="0" lang="en-US" sz="2400" spc="-1" strike="noStrike">
                <a:solidFill>
                  <a:srgbClr val="000000"/>
                </a:solidFill>
                <a:latin typeface="Calibri"/>
              </a:rPr>
              <a:t> - Elementa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ationale for Assessment Tools</a:t>
            </a:r>
            <a:br>
              <a:rPr sz="3200"/>
            </a:br>
            <a:endParaRPr b="0" lang="en-US" sz="3200" spc="-1" strike="noStrike">
              <a:solidFill>
                <a:srgbClr val="000000"/>
              </a:solidFill>
              <a:latin typeface="Calibri"/>
            </a:endParaRPr>
          </a:p>
        </p:txBody>
      </p:sp>
      <p:graphicFrame>
        <p:nvGraphicFramePr>
          <p:cNvPr id="43" name=""/>
          <p:cNvGraphicFramePr/>
          <p:nvPr/>
        </p:nvGraphicFramePr>
        <p:xfrm>
          <a:off x="193680" y="1143000"/>
          <a:ext cx="8756640" cy="5311800"/>
        </p:xfrm>
        <a:graphic>
          <a:graphicData uri="http://schemas.openxmlformats.org/drawingml/2006/table">
            <a:tbl>
              <a:tblPr/>
              <a:tblGrid>
                <a:gridCol w="1260360"/>
                <a:gridCol w="2397240"/>
                <a:gridCol w="5099040"/>
              </a:tblGrid>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en / by who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y this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2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servation Checklis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ole year (particularly useful at the beginning of the school year)</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or T.A.</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er (for higher grade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ide application</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thers information on students ie. M.I. strengths, behaviors, learning styles, interes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eful for grouping students, planning activities, classroom set-up, report card writ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6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tal Talent Portfolio</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arning Journal)</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 choice</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recommendation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teacher negotiated</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 gather and demonstrate evidence of abilities, interests of individual students and style preferences (instructional style, learning environment, thinking styles &amp; expressions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n be used in 2- or 3-way conferenc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ows and guides learn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00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est Survey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s (for higher grad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ginning of each semest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quick, visual overview of student interests and learning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asy for higher grade students to complete ( Gr. 1-4)</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rveys completed by parents can assist with classroom set-up/planning at the beginning of the school year to immediately engage stud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 can provide more accurate, deeper insigh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graphicFrame>
        <p:nvGraphicFramePr>
          <p:cNvPr id="44" name=""/>
          <p:cNvGraphicFramePr/>
          <p:nvPr/>
        </p:nvGraphicFramePr>
        <p:xfrm>
          <a:off x="109440" y="757080"/>
          <a:ext cx="8599320" cy="5851440"/>
        </p:xfrm>
        <a:graphic>
          <a:graphicData uri="http://schemas.openxmlformats.org/drawingml/2006/table">
            <a:tbl>
              <a:tblPr/>
              <a:tblGrid>
                <a:gridCol w="449280"/>
                <a:gridCol w="430200"/>
                <a:gridCol w="544680"/>
                <a:gridCol w="545760"/>
                <a:gridCol w="765360"/>
                <a:gridCol w="609480"/>
                <a:gridCol w="608040"/>
                <a:gridCol w="617760"/>
                <a:gridCol w="615960"/>
                <a:gridCol w="607680"/>
                <a:gridCol w="609840"/>
                <a:gridCol w="608040"/>
                <a:gridCol w="609480"/>
                <a:gridCol w="977760"/>
              </a:tblGrid>
              <a:tr h="56844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 </a:t>
                      </a:r>
                      <a:r>
                        <a:rPr b="0" lang="en-US" sz="1000" spc="-1" strike="noStrike">
                          <a:solidFill>
                            <a:srgbClr val="000000"/>
                          </a:solidFill>
                          <a:latin typeface="Arial"/>
                          <a:ea typeface="Arial"/>
                        </a:rPr>
                        <a:t>- Engaged</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a:t>
                      </a:r>
                      <a:r>
                        <a:rPr b="0" lang="en-US" sz="1000" spc="-1" strike="noStrike">
                          <a:solidFill>
                            <a:srgbClr val="000000"/>
                          </a:solidFill>
                          <a:latin typeface="Arial"/>
                          <a:ea typeface="Arial"/>
                        </a:rPr>
                        <a:t>- Creat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a:t>
                      </a:r>
                      <a:r>
                        <a:rPr b="0" lang="en-US" sz="1000" spc="-1" strike="noStrike">
                          <a:solidFill>
                            <a:srgbClr val="000000"/>
                          </a:solidFill>
                          <a:latin typeface="Arial"/>
                          <a:ea typeface="Arial"/>
                        </a:rPr>
                        <a:t> - Initi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NP</a:t>
                      </a:r>
                      <a:r>
                        <a:rPr b="0" lang="en-US" sz="1000" spc="-1" strike="noStrike">
                          <a:solidFill>
                            <a:srgbClr val="000000"/>
                          </a:solidFill>
                          <a:latin typeface="Arial"/>
                          <a:ea typeface="Arial"/>
                        </a:rPr>
                        <a:t> - Not participating</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L</a:t>
                      </a:r>
                      <a:r>
                        <a:rPr b="0" lang="en-US" sz="1000" spc="-1" strike="noStrike">
                          <a:solidFill>
                            <a:srgbClr val="000000"/>
                          </a:solidFill>
                          <a:latin typeface="Arial"/>
                          <a:ea typeface="Arial"/>
                        </a:rPr>
                        <a:t> - Collaborative</a:t>
                      </a: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08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P -Persevera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
                      </a:r>
                      <a:r>
                        <a:rPr b="0" lang="en-US" sz="1000" spc="-1" strike="noStrike">
                          <a:solidFill>
                            <a:srgbClr val="000000"/>
                          </a:solidFill>
                          <a:latin typeface="Arial"/>
                          <a:ea typeface="Arial"/>
                        </a:rPr>
                        <a:t> – Dominant Personality</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D</a:t>
                      </a:r>
                      <a:r>
                        <a:rPr b="0" lang="en-US" sz="1000" spc="-1" strike="noStrike">
                          <a:solidFill>
                            <a:srgbClr val="000000"/>
                          </a:solidFill>
                          <a:latin typeface="Arial"/>
                          <a:ea typeface="Arial"/>
                        </a:rPr>
                        <a:t> -- Shares Ideas</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a:t>
                      </a:r>
                      <a:r>
                        <a:rPr b="0" lang="en-US" sz="1000" spc="-1" strike="noStrike">
                          <a:solidFill>
                            <a:srgbClr val="000000"/>
                          </a:solidFill>
                          <a:latin typeface="Arial"/>
                          <a:ea typeface="Arial"/>
                        </a:rPr>
                        <a:t>- Follow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O- </a:t>
                      </a:r>
                      <a:r>
                        <a:rPr b="0" lang="en-US" sz="1000" spc="-1" strike="noStrike">
                          <a:solidFill>
                            <a:srgbClr val="000000"/>
                          </a:solidFill>
                          <a:latin typeface="Arial"/>
                          <a:ea typeface="Arial"/>
                        </a:rPr>
                        <a:t>Commun- ic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a:t>
                      </a:r>
                      <a:r>
                        <a:rPr b="0" lang="en-US" sz="1000" spc="-1" strike="noStrike">
                          <a:solidFill>
                            <a:srgbClr val="000000"/>
                          </a:solidFill>
                          <a:latin typeface="Arial"/>
                          <a:ea typeface="Arial"/>
                        </a:rPr>
                        <a:t> - Effici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M - Impuls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O</a:t>
                      </a:r>
                      <a:r>
                        <a:rPr b="0" lang="en-US" sz="1000" spc="-1" strike="noStrike">
                          <a:solidFill>
                            <a:srgbClr val="000000"/>
                          </a:solidFill>
                          <a:latin typeface="Arial"/>
                          <a:ea typeface="Arial"/>
                        </a:rPr>
                        <a:t> - Observ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 - Spatial</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r>
              <a:tr h="568080">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STUD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ctivity</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mp;</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e</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r>
              <a:tr h="37008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844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
          <p:cNvSpPr/>
          <p:nvPr/>
        </p:nvSpPr>
        <p:spPr>
          <a:xfrm>
            <a:off x="558720" y="276120"/>
            <a:ext cx="815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 Checklist Template  </a:t>
            </a:r>
            <a:r>
              <a:rPr b="1" lang="en-US" sz="1000" spc="-1" strike="noStrike">
                <a:solidFill>
                  <a:srgbClr val="000000"/>
                </a:solidFill>
                <a:latin typeface="Arial"/>
              </a:rPr>
              <a:t>(place applicable letters in box next to students’ nam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06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lassroom Profile Chart</a:t>
            </a:r>
            <a:endParaRPr b="0" lang="en-US" sz="3600" spc="-1" strike="noStrike">
              <a:solidFill>
                <a:srgbClr val="000000"/>
              </a:solidFill>
              <a:latin typeface="Calibri"/>
            </a:endParaRPr>
          </a:p>
        </p:txBody>
      </p:sp>
      <p:sp>
        <p:nvSpPr>
          <p:cNvPr id="47" name=""/>
          <p:cNvSpPr txBox="1"/>
          <p:nvPr/>
        </p:nvSpPr>
        <p:spPr>
          <a:xfrm>
            <a:off x="457200" y="904680"/>
            <a:ext cx="8229600" cy="5257800"/>
          </a:xfrm>
          <a:prstGeom prst="rect">
            <a:avLst/>
          </a:prstGeom>
          <a:noFill/>
          <a:ln w="0">
            <a:noFill/>
          </a:ln>
        </p:spPr>
        <p:txBody>
          <a:bodyPr anchor="t">
            <a:normAutofit fontScale="19000"/>
          </a:bodyPr>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ow will you display results?</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ersonal child display boards – each child will have space on a clas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room display board where they can share information about themselv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Wall checklist for all educators who interact with students to view</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Teacher’s observational data folder (information can be transferred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to a spread sheet for easy acces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ho will you share results with?</a:t>
            </a:r>
            <a:endParaRPr b="0" lang="en-US" sz="2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1800" spc="-1" strike="noStrike">
                <a:solidFill>
                  <a:srgbClr val="000000"/>
                </a:solidFill>
                <a:latin typeface="Calibri"/>
              </a:rPr>
              <a:t>- Specialist teacher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Parent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Student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mple uses for this information</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arent-teacher conferenc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Student goal setting</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Inform classroom teacher for planning purposes and for students of concern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L.S. referral)</a:t>
            </a:r>
            <a:endParaRPr b="0" lang="en-US" sz="1800" spc="-1" strike="noStrike">
              <a:solidFill>
                <a:srgbClr val="000000"/>
              </a:solidFill>
              <a:latin typeface="Calibri"/>
            </a:endParaRPr>
          </a:p>
          <a:p>
            <a:pPr lvl="1" marL="7206840" indent="1845000">
              <a:spcBef>
                <a:spcPts val="451"/>
              </a:spcBef>
              <a:tabLst>
                <a:tab algn="l" pos="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ent Debriefing Plan</a:t>
            </a:r>
            <a:endParaRPr b="0" lang="en-US" sz="4400" spc="-1" strike="noStrike">
              <a:solidFill>
                <a:srgbClr val="000000"/>
              </a:solidFill>
              <a:latin typeface="Calibri"/>
            </a:endParaRPr>
          </a:p>
        </p:txBody>
      </p:sp>
      <p:sp>
        <p:nvSpPr>
          <p:cNvPr id="49" name=""/>
          <p:cNvSpPr txBox="1"/>
          <p:nvPr/>
        </p:nvSpPr>
        <p:spPr>
          <a:xfrm>
            <a:off x="0" y="863640"/>
            <a:ext cx="9144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When? </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Back to School” Night – initial sharing with parent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informal through parent pick-up/drop-off tim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tudent Led Conferenc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imulation of an activity that has already been incorporated into the Learning Journal</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hare learning through wall display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discuss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dividual Profile Portfoli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The Learning Journal is a collection of artifacts accompanied by a reflective narrative than not only helps the learner to understand and extend learning, but invites the reader of the learning journal to gain insights about learning and the learner. They are collections of student work that are designed to demonstrate successes, growth, creativity, areas that need improvement, and reflec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5T00:07:15Z</dcterms:created>
  <dc:creator>Henry Nicols</dc:creator>
  <dc:description/>
  <dc:language>en-US</dc:language>
  <cp:lastModifiedBy>hamaguchik</cp:lastModifiedBy>
  <dcterms:modified xsi:type="dcterms:W3CDTF">2010-06-07T07:37:43Z</dcterms:modified>
  <cp:revision>13</cp:revision>
  <dc:subject/>
  <dc:title>Slide 1</dc:title>
</cp:coreProperties>
</file>