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A55-409F-44B7-BBD4-05486103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5F4-021A-4203-9F1F-71075BE0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F66-A561-4524-B7C9-401AE43E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450-C0D2-48CB-BB8B-748F37AC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31E-3C8D-4A1B-AA22-59654314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DB6-D624-49EB-8B8A-266B8BE8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605-4A93-4319-8D02-88E858A4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8B8-D6DB-4572-BEA5-77755916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DB5-4876-4678-9AEC-4814B7DF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1E2-4321-48C8-8E42-CF162026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9A5-FFBB-48B8-871B-4FDEC119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A57-4E94-40E3-BA3B-3CD26F63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4F4CF-6BBA-4C85-8FDB-9E349F178C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EEA0A-6B46-457E-BB16-FF3444813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676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otal Talent Portfol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1. Joe Co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. Nadine Dickin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3. Steve Ay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4.  Peggy Kel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5. Alan MacLe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Grade Level: 9-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ments to be u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, time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600200"/>
          <a:ext cx="8967960" cy="6130800"/>
        </p:xfrm>
        <a:graphic>
          <a:graphicData uri="http://schemas.openxmlformats.org/drawingml/2006/table">
            <a:tbl>
              <a:tblPr/>
              <a:tblGrid>
                <a:gridCol w="2989440"/>
                <a:gridCol w="2989080"/>
                <a:gridCol w="298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- (students create a name card with 5-6 pictures representing their interests and pass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at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introduction, it’s quick, simple and effective (home room is only 20 minutes). This can also be adapted to different mediums for some teachers who prefer other for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ance survey- (similar to ‘my way’-a series of on-line questions designed to help students develop an idea of preferred learning styles and career interes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near the start of the year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lace to store student information which can be accessed by all teachers. It provides student self knowledge and crosses departments with teach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or’s workshop- ( students working in small groups to create a list of 8-10 items using only newspaper and tap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base during a low time, modeled by home room teacher in grades 9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tudents and teachers who observe gain insights into each other and themsel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share and 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card can be carried around between classes for all teachers to 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iance survey is online for easy access to any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s from the inventor’s workship could be posted to their online digital portfolio and in the home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open house and parent teacher inter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 coffees with the high school counsel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can be shown on the projector during open house and specifically in a parent teacher int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collected info, discuss the student’s streng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2814480"/>
          <a:ext cx="8686800" cy="249876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8440"/>
                <a:gridCol w="1736640"/>
              </a:tblGrid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ent Pi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rning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ltiple intellig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5 trans disciplinary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 Skywal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tac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works well with hands, enjoys building th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36640" y="3936960"/>
            <a:ext cx="10224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4:35:57Z</dcterms:created>
  <dc:creator>Henry Nicols</dc:creator>
  <dc:description/>
  <dc:language>en-US</dc:language>
  <cp:lastModifiedBy>Alan MacLean</cp:lastModifiedBy>
  <dcterms:modified xsi:type="dcterms:W3CDTF">2010-06-07T07:34:44Z</dcterms:modified>
  <cp:revision>5</cp:revision>
  <dc:subject/>
  <dc:title>Slide 1</dc:title>
</cp:coreProperties>
</file>