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2B49-879D-4C09-B29F-A2968E3CA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811F-A205-473C-B390-80D80E954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B982-3596-4537-984A-26988EDD1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407B-8CB8-4524-A5A1-603EC644C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BDFD-FCF8-4BD5-8781-B424C945E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7055-AABA-43D7-8D93-DE4349F7F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9D5A-171F-4563-BD9C-AE8703C0F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37E2-3D95-475D-8523-B666CF9D2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33DF-CF42-42AA-A707-6E233D4CF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E026-7A97-435C-BD10-0CCB83093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6BD2-0247-4207-8BE9-E35B9533B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DB99-A936-447B-8658-ECABA6779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60ABD1-FE23-46DB-9932-2B8A1D98F52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0A432B-132B-48FC-A191-518B0B84D8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2426760"/>
            <a:ext cx="64008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Total Talent Portfolio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1. Joe Con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2. Nadine Dickins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3. Steve Ayling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4.  Peggy Kell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5. Alan MacLea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Grade Level: 9-12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nstruments to be used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urpose, timetabl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0" y="1600200"/>
          <a:ext cx="8967960" cy="6130800"/>
        </p:xfrm>
        <a:graphic>
          <a:graphicData uri="http://schemas.openxmlformats.org/drawingml/2006/table">
            <a:tbl>
              <a:tblPr/>
              <a:tblGrid>
                <a:gridCol w="2989440"/>
                <a:gridCol w="2989080"/>
                <a:gridCol w="29894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hat Instru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hen / by wh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hy this instru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56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usiness Card- (students create a name card with 5-6 pictures representing their interests and passion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me base at the start of the year, modeled by home room teacher in grades 9-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ood introduction, it’s quick, simple and effective (home room is only 20 minutes). This can also be adapted to different mediums for some teachers who prefer other form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viance survey- (similar to ‘my way’-a series of on-line questions designed to help students develop an idea of preferred learning styles and career interest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me base near the start of the year, modeled by home room teacher in grades 9-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lace to store student information which can be accessed by all teachers. It provides student self knowledge and crosses departments with teacher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entor’s workshop- ( students working in small groups to create a list of 8-10 items using only newspaper and tap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me base during a low time, modeled by home room teacher in grades 9-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students and teachers who observe gain insights into each other and themselve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assroom / Profil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at did we learn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41732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will you share and display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siness card can be carried around between classes for all teachers to se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viance survey is online for easy access to any tea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hotos from the inventor’s workship could be posted to their online digital portfolio and in the homero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rent Debrief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ring open house and parent teacher interview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rent coffees with the high school counsel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amples can be shown on the projector during open house and specifically in a parent teacher inter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ecific Ide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ing the collected info, discuss the student’s strength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udent Specific 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2814480"/>
          <a:ext cx="8686800" cy="2498760"/>
        </p:xfrm>
        <a:graphic>
          <a:graphicData uri="http://schemas.openxmlformats.org/drawingml/2006/table">
            <a:tbl>
              <a:tblPr/>
              <a:tblGrid>
                <a:gridCol w="1736640"/>
                <a:gridCol w="1738440"/>
                <a:gridCol w="1736640"/>
                <a:gridCol w="1738440"/>
                <a:gridCol w="1736640"/>
              </a:tblGrid>
              <a:tr h="103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tudent Pict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earning Strateg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ultiple intelligen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he 5 trans disciplinary skil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4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uke Skywalk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tacti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works well with hands, enjoys building thing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836640" y="3936960"/>
            <a:ext cx="1022400" cy="6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5T04:35:57Z</dcterms:created>
  <dc:creator>Henry Nicols</dc:creator>
  <dc:description/>
  <dc:language>en-US</dc:language>
  <cp:lastModifiedBy>Alan MacLean</cp:lastModifiedBy>
  <dcterms:modified xsi:type="dcterms:W3CDTF">2010-06-07T07:34:44Z</dcterms:modified>
  <cp:revision>5</cp:revision>
  <dc:subject/>
  <dc:title>Slide 1</dc:title>
</cp:coreProperties>
</file>