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FA4-2BBE-462E-A2F2-069F2835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944-9616-4D1A-8BCB-2706A391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AE8-9DC0-4441-9938-8C104423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4DD-39E3-4FBB-8D72-A3614837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A95-12C8-492A-B2B5-6898FBB0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831-D89D-448C-917C-DD4934BB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D2F-DF10-44FC-BB45-D40E1DB2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BCA-33F9-45B9-B244-92EFB3E3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E26-AD8A-4D4F-B78B-1535458A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ED0-5D95-45C1-9F5B-1961C766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AF9-92BA-46A8-A86B-AB11A38F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C91-C17C-4766-8A7E-23EEB366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9D0B3-D4A4-4BFC-A026-8EE59A9D78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56FD1-A126-4F37-AD4D-A17644A20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676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Total Talent Portfoli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1. Joe Con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2. Nadine Dickin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3. Steve Ayl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4.  Peggy Kel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5. Alan MacLe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Grade Level: 9-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ments to be u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rpose, timet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1600200"/>
          <a:ext cx="8967960" cy="6130800"/>
        </p:xfrm>
        <a:graphic>
          <a:graphicData uri="http://schemas.openxmlformats.org/drawingml/2006/table">
            <a:tbl>
              <a:tblPr/>
              <a:tblGrid>
                <a:gridCol w="2989440"/>
                <a:gridCol w="2989080"/>
                <a:gridCol w="298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- (students create a name card with 5-6 pictures representing their interests and pass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at the start of the year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introduction, it’s quick, simple and effective (home room is only 20 minutes). This can also be adapted to different mediums for some teachers who prefer other for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viance survey- (similar to ‘my way’-a series of on-line questions designed to help students develop an idea of preferred learning styles and career interes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near the start of the year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lace to store student information which can be accessed by all teachers. It provides student self knowledge and crosses departments with teach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or’s workshop- ( students working in small groups to create a list of 8-10 items using only newspaper and tap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during a low time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tudents and teachers who observe gain insights into each other and themsel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id we lear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you share and displa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card can be carried around between classes for all teachers to 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viance survey is online for easy access to any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tos from the inventor’s workship could be posted to their online digital portfolio and in the home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open house and parent teacher inter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 coffees with the high school counsel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can be shown on the projector during open house and specifically in a parent teacher int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collected info, discuss the student’s streng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2814480"/>
          <a:ext cx="8686800" cy="2498760"/>
        </p:xfrm>
        <a:graphic>
          <a:graphicData uri="http://schemas.openxmlformats.org/drawingml/2006/table">
            <a:tbl>
              <a:tblPr/>
              <a:tblGrid>
                <a:gridCol w="1736640"/>
                <a:gridCol w="1738440"/>
                <a:gridCol w="1736640"/>
                <a:gridCol w="1738440"/>
                <a:gridCol w="1736640"/>
              </a:tblGrid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udent Pi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rning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ltiple intellig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5 trans disciplinary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 Skywal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tact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works well with hands, enjoys building th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36640" y="3936960"/>
            <a:ext cx="102240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4:35:57Z</dcterms:created>
  <dc:creator>Henry Nicols</dc:creator>
  <dc:description/>
  <dc:language>en-US</dc:language>
  <cp:lastModifiedBy>Alan MacLean</cp:lastModifiedBy>
  <dcterms:modified xsi:type="dcterms:W3CDTF">2010-06-07T07:34:44Z</dcterms:modified>
  <cp:revision>5</cp:revision>
  <dc:subject/>
  <dc:title>Slide 1</dc:title>
</cp:coreProperties>
</file>