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DF41-BCA8-43E3-BA27-65832371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27EB-8715-49E0-97D0-C1A1FCA2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EDAB-38F3-46AB-A210-6FB709327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29C6-3436-405C-8E6A-9FD3A75D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E959-48F2-4BC2-97E1-D1CA924A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13A6-C89D-4BFB-BBD5-C7E7C492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0142-C750-462B-8E12-5AF2C9B2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BBA1-33F0-416E-996C-84CEAE60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E8CE-D458-4092-BA6A-9E45F114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52EC-38DF-441C-ACBB-FA16A15D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30C2-DA3B-4B2A-9203-EC18A8CF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0E1C-B0F0-4A3D-91C7-AC04C6E1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DCC7E6-EDB0-4934-ABDB-DA1059B65E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D97772-2588-478B-A8FA-F88210FB2A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426760"/>
            <a:ext cx="64008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Total Talent Portfoli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1. Joe Con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2. Nadine Dickins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3. Steve Ayl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4.  Peggy Kell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5. Alan MacLea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Grade Level: 9-1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struments to be use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urpose, timetab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1600200"/>
          <a:ext cx="8967960" cy="6130800"/>
        </p:xfrm>
        <a:graphic>
          <a:graphicData uri="http://schemas.openxmlformats.org/drawingml/2006/table">
            <a:tbl>
              <a:tblPr/>
              <a:tblGrid>
                <a:gridCol w="2989440"/>
                <a:gridCol w="2989080"/>
                <a:gridCol w="298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en / by w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y this 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Card- (students create a name card with 5-6 pictures representing their interests and pass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 base at the start of the year, modeled by home room teacher in grades 9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 introduction, it’s quick, simple and effective (home room is only 20 minutes). This can also be adapted to different mediums for some teachers who prefer other form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viance survey- (similar to ‘my way’-a series of on-line questions designed to help students develop an idea of preferred learning styles and career interes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 base near the start of the year, modeled by home room teacher in grades 9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lace to store student information which can be accessed by all teachers. It provides student self knowledge and crosses departments with teach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ntor’s workshop- ( students working in small groups to create a list of 8-10 items using only newspaper and tap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 base during a low time, modeled by home room teacher in grades 9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students and teachers who observe gain insights into each other and themselv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assroom / Profi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id we lear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ill you share and display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siness card can be carried around between classes for all teachers to s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viance survey is online for easy access to any tea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otos from the inventor’s workship could be posted to their online digital portfolio and in the homero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ent Debrief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ing open house and parent teacher intervie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 coffees with the high school counsel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 can be shown on the projector during open house and specifically in a parent teacher inter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Id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the collected info, discuss the student’s streng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ent Specific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2814480"/>
          <a:ext cx="8686800" cy="2498760"/>
        </p:xfrm>
        <a:graphic>
          <a:graphicData uri="http://schemas.openxmlformats.org/drawingml/2006/table">
            <a:tbl>
              <a:tblPr/>
              <a:tblGrid>
                <a:gridCol w="1736640"/>
                <a:gridCol w="1738440"/>
                <a:gridCol w="1736640"/>
                <a:gridCol w="1738440"/>
                <a:gridCol w="1736640"/>
              </a:tblGrid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udent Pi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arning Strate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ultiple intellig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e 5 trans disciplinary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4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ke Skywal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tact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works well with hands, enjoys building th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836640" y="3936960"/>
            <a:ext cx="102240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04:35:57Z</dcterms:created>
  <dc:creator>Henry Nicols</dc:creator>
  <dc:description/>
  <dc:language>en-US</dc:language>
  <cp:lastModifiedBy>Alan MacLean</cp:lastModifiedBy>
  <dcterms:modified xsi:type="dcterms:W3CDTF">2010-06-07T07:34:44Z</dcterms:modified>
  <cp:revision>5</cp:revision>
  <dc:subject/>
  <dc:title>Slide 1</dc:title>
</cp:coreProperties>
</file>