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8D2-44D7-4031-AE0D-816DAAF3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C97-4119-48F3-A2E7-707BDAC4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842-DFD1-40DC-B715-F0DDCC16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5C9-23B3-4739-85E0-B6C6E1EC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586-CC03-45E4-89D3-17247351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624-87A6-453C-BCD5-F570CC79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9DA-A22C-458E-BD20-4E01F3DC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BA2-6965-4FED-8A62-83CD14B2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B6D-B97F-40E2-B6EA-642EC4B9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004-C54F-4715-B07E-5EA027C0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AD9-A842-4FDE-B92A-55FD20D7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B19-4C4C-47A4-9890-AC535EAA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802D9-54EA-4027-BA24-C85286C4F8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09EB1-B8BF-43E3-8FC3-B022124C8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 Joe Co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 Nadine Dickin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 Steve Ay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  Peggy Kel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 Alan MacL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: 9-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600200"/>
          <a:ext cx="8967960" cy="5308560"/>
        </p:xfrm>
        <a:graphic>
          <a:graphicData uri="http://schemas.openxmlformats.org/drawingml/2006/table">
            <a:tbl>
              <a:tblPr/>
              <a:tblGrid>
                <a:gridCol w="2989440"/>
                <a:gridCol w="2989080"/>
                <a:gridCol w="29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at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introduction, it’s quick, simple and effective (home room is only 20 minutes). This can also be adapted to different mediums for some teachers who prefer other for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ance survey (similar to my w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near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lace to store student information which can be accessed by all teachers. It provides student self knowledge and crosses departments with teach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or’s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during a low time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tudents and teachers who observe gain insights into each other and them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and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card can be carried around between classes for all teachers to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ance survey is online for easy access to an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 from the inventor’s workship could be posted to their online digital portfolio and in the home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open house and parent teacher inter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coffees with the high school counse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can be shown on the projector during open house and specifically in a parent teacher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collected info, discuss the student’s streng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2814480"/>
          <a:ext cx="8686800" cy="249876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ent 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ltiple inteligg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5 trans disciplinar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Skywal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ta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works well with hands, enjoys building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6640" y="3936960"/>
            <a:ext cx="10224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4:35:57Z</dcterms:created>
  <dc:creator>Henry Nicols</dc:creator>
  <dc:description/>
  <dc:language>en-US</dc:language>
  <cp:lastModifiedBy>Alan MacLean</cp:lastModifiedBy>
  <dcterms:modified xsi:type="dcterms:W3CDTF">2010-06-05T05:17:35Z</dcterms:modified>
  <cp:revision>3</cp:revision>
  <dc:subject/>
  <dc:title>Slide 1</dc:title>
</cp:coreProperties>
</file>