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78E-E35C-49A5-AB35-D12EC273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F40-22A1-46B8-8459-10DEBA6B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452-F215-48A2-BB32-FDE07103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E3C-C975-4741-857C-6CB52C84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72A-9B3F-4D8A-9EFE-E20976A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D2B-C310-4B8D-BC26-7B002C3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CB4-5CE0-442C-AD02-B03CFE0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153-AACB-4F24-AD46-68A798F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DB8-A6CD-42FE-B590-A3BC101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38B-C82A-4EA4-823C-6124D2F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1D1-6DDA-4906-BA6C-9C5BA95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3C6-4C1A-43DB-8C9C-42BD073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A469E-7CB5-4500-94FB-B7C76413D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2BFC4-CD1D-4E37-A370-314EB152E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530856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 (similar to my w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tiple intelig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5T05:17:35Z</dcterms:modified>
  <cp:revision>3</cp:revision>
  <dc:subject/>
  <dc:title>Slide 1</dc:title>
</cp:coreProperties>
</file>