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8C5-250B-4C90-9968-CE4EB004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54D-4944-4769-ACD6-5FCF7CA0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9D7-A0CA-47FF-B3F8-FCBF03C5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971-BA75-4A39-9F4E-7089253C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0F5-3302-4ECB-923D-06216419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030-7A83-44CA-848A-DFFF0ED6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6EC-DFC4-4F25-A64B-F034CBC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7F8-5659-4CC4-BE41-AC108E90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513-0DC5-41FD-867D-BA8E6E60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737-2258-4162-9CCF-420E442D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83E-F21F-45E0-8545-FA074D6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DE0-994D-4AF3-8B1B-D5821D8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EC75B-D041-4DFB-A657-D8DBE198D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F97E5-46E7-47DA-BB96-1C5C31A7D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530856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 (similar to my w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tiple intelig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5T05:17:35Z</dcterms:modified>
  <cp:revision>3</cp:revision>
  <dc:subject/>
  <dc:title>Slide 1</dc:title>
</cp:coreProperties>
</file>