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66A-8CF0-46E3-A04A-8C316420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890-45D9-45DE-9DBB-9C7E1A8C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C9C-60B8-474B-80FB-ED30AACF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2E1-7991-4EFE-8B89-2993681B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F94-40A2-46EF-A8B2-D2B5F612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D90-CC87-414E-9BF8-8FEB109C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9FA-6E74-44B0-8DF6-03B396E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8C4-364B-4077-9CC7-88641124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597-424B-431D-A21E-9539F6C2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5E3-8097-4A5D-B3A1-F1D2C7B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6A3-3013-4722-A2C5-C00065B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582-6F99-46E9-9903-A82D100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C3868-99F2-423F-B45D-1B9BEEEF38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E738D-3A77-4298-BC20-E5FB1EABC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530856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 (similar to my w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tiple intelig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5T05:17:35Z</dcterms:modified>
  <cp:revision>3</cp:revision>
  <dc:subject/>
  <dc:title>Slide 1</dc:title>
</cp:coreProperties>
</file>