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9F0-FB84-441B-AB83-089BAEC4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AC3-9D4E-47F0-B53E-6955E301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9B5-26B9-4E11-ABB4-3C7C3ECF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CED-E4CB-40B2-BD9F-ACB341D9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E89-11F9-4454-8809-7C24D97C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63D-CDE8-431D-8DF4-4FB84036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E6C-78DB-45B3-B128-7B639B44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49D-E5B3-47D5-93A7-13364CFF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980-02EF-453F-ABBA-219D057D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FE7-C022-476D-A1BD-75CA8554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4B2-77E8-4283-8441-1819615F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221-FE3B-481A-9EFF-8808131A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7015F-6DCD-4D7A-9823-7210185EFA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A6CF1-550A-43B1-A2A5-6BB2FB48F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676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otal Talent Portfol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5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Grad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ments to be u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, time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503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we lea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ill you Displa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share result w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 Uses for this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etical Student Na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0:07:15Z</dcterms:created>
  <dc:creator>Henry Nicols</dc:creator>
  <dc:description/>
  <dc:language>en-US</dc:language>
  <cp:lastModifiedBy>Henry Nicols</cp:lastModifiedBy>
  <dcterms:modified xsi:type="dcterms:W3CDTF">2010-06-05T05:34:07Z</dcterms:modified>
  <cp:revision>3</cp:revision>
  <dc:subject/>
  <dc:title>Slide 1</dc:title>
</cp:coreProperties>
</file>