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BC0-BAC0-4B29-A41D-3B39A36A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768-4820-4F35-BC99-34DD32A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357-052A-43CA-999D-F1C35A59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D5C-CA86-47EF-96F1-22F19FBF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D9C-F7E0-4131-A10B-E0B556F0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4F4-BE9E-43AB-984F-AEBA698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D6F-7126-43EA-BF90-C95B4D99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B2A-F252-4C0E-830F-B0A29810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359-A213-4544-BD64-9C0B4283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913-7F91-4C78-BEB8-FF3611A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021-1C4F-4F08-96C7-F22C5F16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5CB-A806-4EB8-9F06-3EFA2CD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80277-11B0-4CCD-9048-41C9CA4DF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F287C-7081-4458-8AC7-BDC29E3EE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503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 you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result w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Uses for this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tical Student Na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Henry Nicols</cp:lastModifiedBy>
  <dcterms:modified xsi:type="dcterms:W3CDTF">2010-06-05T05:34:07Z</dcterms:modified>
  <cp:revision>3</cp:revision>
  <dc:subject/>
  <dc:title>Slide 1</dc:title>
</cp:coreProperties>
</file>