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8B3-98C2-4C24-A240-524EB89D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B06-B05A-4A7B-A2BB-169FFBF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EAE-0954-4A75-9BE8-9515C6CB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059-237C-4B4F-9369-EDE5A180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DD8-94A8-4154-9E33-CE3A4A5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171-F735-4408-8DAA-F54B687F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C31-57B8-4F30-8889-4E09D405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158-3886-4E2B-8B47-03F1285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3C5-06F1-4A16-A554-4ECD87D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1E3-EA96-4403-8066-58D1EA2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013-1D42-4095-A396-D001ECA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ACE-E138-4BC5-A5A9-28DD027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28892-55C6-4F1E-9C95-4B2112C28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38030-9B46-4F4C-838C-18BA2FF26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503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 you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result w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Uses for this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tical Student Na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Henry Nicols</cp:lastModifiedBy>
  <dcterms:modified xsi:type="dcterms:W3CDTF">2010-06-05T05:34:07Z</dcterms:modified>
  <cp:revision>3</cp:revision>
  <dc:subject/>
  <dc:title>Slide 1</dc:title>
</cp:coreProperties>
</file>