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0F5-F1EE-4429-8369-557E83A6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64B-DA8B-4495-A106-A91BDFD9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F06-CD2B-44D2-9238-CECE0875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346-136A-436B-93F7-97D0DEA9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382-DD69-43F4-B9CC-4829E6E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A20-2935-4618-875E-6C42F110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B9E-B042-43E6-A91E-4B555EFC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026-E8CA-4E0B-8E34-F7B46335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04E-960B-429C-8CBA-662FCB0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37F-17F3-42DE-AF8B-79D127B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F63-25D0-4EE5-98F0-5642E63A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CCA-EBB8-40C8-97DB-0BF92E70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AAC62-6F73-423D-8444-60107473D5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6D6DD-58A6-43A4-A717-5289BBA02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503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 you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result w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Uses for this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tical Student Na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Henry Nicols</cp:lastModifiedBy>
  <dcterms:modified xsi:type="dcterms:W3CDTF">2010-06-05T05:34:07Z</dcterms:modified>
  <cp:revision>3</cp:revision>
  <dc:subject/>
  <dc:title>Slide 1</dc:title>
</cp:coreProperties>
</file>